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4F6-C910-492B-800D-578A4FB0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A39-7E96-49C1-8F8E-8FF1E57F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6A2C2-1FD3-4643-9081-15896F68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05136-8CFA-4027-B5BB-5BB2B96A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D9CDC-8D73-4C10-9FBA-5703A668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860A4-FED9-4130-ADF4-2B48F152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6CCEA-5D9A-4718-83EC-27AA6CB5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A73A1-94C5-4796-B1E2-746EA54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A7950-F919-44B2-A533-AADBEEC5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7D6FD-D8FE-410B-8809-4D35DC67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97208-D13C-4023-B96C-52884099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F7D21-131F-4A10-BAA0-A9ACD91F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2AF-C3C8-432D-9E58-475734F5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9C000-1847-4035-915B-355D175D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7C4D5-1BB3-49F5-94DC-FAADB1ED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D709E-B672-4B9E-90AD-FA8F1BC7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4FD8F-F57F-4FBC-99E1-A2834012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282B4-F01C-448D-B11E-2666D17F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44226-77FC-4848-B7EA-55E8B5FA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85247-4A2A-4395-91FB-72CFE137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B6071-4813-4EB9-9718-522831F6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8D058-D6C5-4FD5-AFB8-91310D1A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5CBF9-13B7-41D2-9D4F-9817EC0D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CA5-9641-4B13-9902-A16ECE76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E9494-2052-4E6D-A97D-4D0B402D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65A9A-EEF9-4E5E-8329-4A65D6DF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F4FE3-1788-4780-B9C5-43C0A603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9AF9A-4983-47BD-B4C0-98C72F33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C2337-5E68-4A18-BE19-5FB4A9D2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EA625-3168-4171-B0F8-DF799A6C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56F71-B9E3-4A4C-9C79-8C51A19B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E6BC7-BE3A-4275-866A-70BDF752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D54B4-2778-45F9-AD22-485AF5D9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BB869-B6A0-43FB-9349-4D1705AA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9D09-2060-45B9-8C6F-9D7AC36F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8CE9A-2096-4131-929D-4542B081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7ADEF-AFCB-4BB8-9932-CC2C48AE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53D62-2A6D-4C36-812D-B7EE7337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52723-90E2-4BB1-A0A6-5DAA6952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7F5D6-DF2C-4E32-A6E7-0C049650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14654-3077-446A-8F43-71E4C98D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213F0-3E66-4049-BF26-02739671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1C323-DA2C-433A-85BB-079B1CC3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3BC55-1643-40B3-BE6F-B3C5E878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1E984-84F8-463C-B28C-4D533E4B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E7E3-4441-47ED-8E7B-C7EDEB28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4CD09-F97B-401B-BF46-76BE3E93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20E21-EDE6-4B72-8A83-66C7AEF0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03C60-BB77-43DB-A004-1BF8DFCC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0708B-9B58-4829-9648-02C4A58C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979FD-24AB-4C4B-96E0-909E80C3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17063-E351-4784-8D0C-3779743B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CA912-AA91-431F-9833-358D69CC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541FA-0527-4638-B672-060861DC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75C63-686C-4A8B-83B9-861848C8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CE8A5-76EB-43AA-B3B3-1DB31D82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0A0C-DAAB-4719-8BF2-5FA8DEEE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99024-B4BD-4BAA-B3DA-F3C9C4F4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88C8E-6203-4C76-8B90-3A1140E1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27883-CDDA-480E-9BA7-41711791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F21F1-9B24-403D-BC09-D177CFEC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00215-63F7-4E55-9F29-3051B05C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39E0D-7C36-4DCB-B529-A62E811F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9E6E4-5CFD-4FEC-A83D-5DE9E7DF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45BFD-4CE5-4946-A1E4-048B0887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508DA-7FE9-4225-82A9-C109B392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AC9FF-99DC-4F24-9A54-15474D01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DD13-E31D-4C8B-A566-CF5E3C24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E1BF1-4487-4420-A9CE-908D0330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DE15A-EEF5-4AA8-A676-83CDC7AB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D3A87-6E81-4BB4-9935-757AB589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1A63F-F486-4EE0-B4E6-E643814B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B4A81-0925-4E33-AEC0-292431C5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BE022-74C9-46D3-9C07-F37704BF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276C9-D83A-4A6E-96E7-EA04343F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87720-15CD-4ED5-84F1-036837A7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5843D-9070-476C-8161-9FA1D593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75816-57F9-448D-B9F7-CBC9A65F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816D-19D1-4271-BF4E-A715B300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BA1387-5DC2-49C9-8F4A-D652C58F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A4B0E-8B8A-4574-8A2A-0DA312E6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04B68B-3400-439C-8AD8-0D5F1B80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188E47-5B71-4514-9C44-22A201AE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426A15-2906-411C-B5C1-E46A7952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C9C33-40CC-4829-93B3-A67786C8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78BFB-03C5-4AEC-8408-BC76F9CB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BE44B-5D84-44F6-BC91-9A21CB45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B88B7-A108-421D-BFA6-F3998EA4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C89B6-0FE3-4521-B4A1-FE69FAEF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6129-CC98-43CE-9302-F3E0F373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EA2A0-37B2-4D60-9D17-107EF842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224489-22C8-4E2E-A8C3-A227E537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66F6A-BB3E-4830-BE53-AADCB79E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7C670-D9B2-4A03-AA6C-3893FD5A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E70901-2676-4FC0-A365-1E06C691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834AD-8D08-438D-99A0-A5B0E0D6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4F279-1A6C-4D69-BFDD-20A93949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9CB73-61C9-4E84-99ED-CA5762B8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95A7D-AE40-4593-9CF9-AD39A3B7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FB2B1C-5AEA-422D-933E-28B84F61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0F43-6C76-44C5-ACE0-82CE8856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86710-FE7F-4E1E-8B90-060A1E65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ABD52-8D5E-4A21-8CEF-3EABE229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FD72B-8FB2-428F-9D02-6AB51FA4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518B80-26E3-4EE8-AE33-863245E4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794731-372B-482A-B3D2-334EFBB7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FD09D-98AA-4E71-BF8C-FF800282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C15F6-8D1B-4404-ACC3-101744A4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5E1D7-9738-4527-A2F5-2F30D4BB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565FB7-DF7A-4242-B8D3-A122C2B2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E55B9-8D5F-4118-8455-EA326009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547-FAE1-4F71-905F-B89D776A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0166-E93A-499E-BC49-45F30854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6144E0-1532-4274-85A9-F615F7E5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6F74B5-0EF0-4A13-8400-C491C1F9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068BD-1F8D-402F-8BD7-8F9F4800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F0770-6AC4-4A34-9916-EE6543D4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7A53BB-214E-43D0-AF24-40D2108D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4CE4E-E552-4297-BE12-7C193869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280970-115A-4420-83DA-475D4271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2FC52F-708D-4499-8DC9-DD152C8C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C44EEE-D46A-42FE-9D2E-D094D0D5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F96B7-9A86-47DB-BB81-AAAAFB9D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160E-B27C-4420-859E-4FA767C6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1CDBF-D889-4D93-9829-88162A73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6D5AD-A8A5-4CD8-801A-4A6EB435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ACC630-80B3-4EAD-B665-27971463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F7E130-5D21-4A96-B5B7-3DAB535C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8B9DB-6A2A-465B-B55B-44CB4753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04A36-CCE4-484D-852A-1790CD59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48F817-7A71-47D4-80F1-5E771C1B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A88F72-E66C-43A0-85CB-3FBACE1D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90808-C7C7-44E9-A95C-CF2CBE24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C6BCCF-7DD1-4B26-AF7F-38137B1F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6654-9242-4234-B862-4C3CD9BC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F6529A-47B5-4011-82F5-DE2F977F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8A854D-240C-496F-9576-D178FB57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E81A44-F291-49BC-8238-DD5C34D2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80F379-6712-496A-AD41-87040EEC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7F89B8-9707-441C-B835-57E85228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636B8-BCD3-45FC-8CCF-11B7C9FD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3682E4-FB1F-4C23-BDCA-08951DFF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AD9BE2-BFC1-4911-AAED-96B9F5B6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C5FD42-A393-4437-9443-7DCDCBE8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6DBE48-7FED-4880-893C-052F6FD7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737D-87F9-4E3C-A500-2CEB3235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30786-883B-485F-AE7A-A3AE4D55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A9960D-FD8E-4F93-8EC7-9E941F23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2737DE-E449-472A-BA77-03D983F5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B66535-BD28-429F-8BEE-5D2E5740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B2873F-9227-41B0-8D1C-73965942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823F0-2B44-45D9-86CD-97DAF5B6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3D8107-AD18-4730-80DD-85618BB0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1ACBC1-6CC8-442A-A960-CB805D71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0132CD-6CED-4695-9A5C-9205C0C8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1CCA4F-DBF2-47DF-AF6C-85899681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9534-A057-4D8F-936C-A08CFB11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46BCA4-36FF-4DA0-8586-3D6382DC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63F18E-12AC-4E7E-9B9B-B2C63F5F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F8C0E7-B64E-4DD9-827E-3CFCB21B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674FF6-CC4D-4776-8C2D-007481AA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CC8189-0708-4B08-A3DC-D6BF9C00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EE690E-7C24-449A-85FF-F1A8670F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731DCB-9990-4D80-BBDA-AF97D6E6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013EF6-3704-4051-AC0D-6FB3821F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F3FA7D-D43F-426E-89D2-753F97BC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249D60-D7EF-4FAD-B843-BA383F7D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9253-6408-4F8F-8D3F-1EBDD86F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382176-AD84-45E2-98D4-6A1CDF2F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F87534-821F-4A20-8DCD-EEDF488E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22BCE2-4648-4E49-8679-D45605EF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6D3D-49A2-4B7A-A349-04B465CA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812A-A80A-493A-9B5E-A9B4EDB3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ABAA0-C692-4F96-83FA-07D8AC30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6D10-7DF9-443E-8BB7-BB972832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3DE-402C-4BE2-A570-AD573F41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E4C0-2E40-42DC-A1F5-6CA348F7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08C62-35F1-40E0-8224-877C158E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5BD5-4EBF-4110-A190-EB5D799B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E64D-CC8A-4A77-95A6-544C69B0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1B21-0859-4D30-8BA7-A44EA8B9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A3EF-31D9-45C7-93B3-CC48DA6B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E8E5-1343-4244-8C11-50B2850B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7CA81-7C42-46C6-A255-AA854F89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D6DD-5EF0-412B-BAB9-E2689C84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3B0F-8955-4C75-9087-42AD732F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297-908F-402A-A381-01FA7571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550E-9941-4C51-B5FC-9CABFAC3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8F27B-9EA4-4EA9-92B7-008771C0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446F4-05FC-41BD-ABEB-E0E4BECE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3BF4-7A72-4DEC-802D-F69F15A7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3B47C-58D6-4713-BE98-51C9AFE6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92F7B-6E18-4607-A0E2-E56B78FC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0AF5E-EE3D-455D-B93C-6AA0D285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7F893-9534-4A53-A219-53D543ED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F455-EA49-4FDF-AE41-9C14F82C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FE627-B937-4CFD-9CA1-2F669DB8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70E-E8FF-4F54-A3A4-5A8C3751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E3104-A012-4ABD-A476-EFFE48F2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58D69-A94A-4E3E-B0DF-988F4223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65A46-E448-40A2-A6F2-76D55437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3A8EB-D40A-49B2-8311-0A09C041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316BF-79A9-4C4F-8B9F-3487AA0C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05DE2-35AA-4043-B56F-20BA4C31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56239-01D2-4070-80A8-FFD5C3E8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025F9-5276-438C-A7F2-3AF8E690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F04D2-B23E-472F-BC5C-E993310C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3393D-7F2E-4B07-A47F-ED272DC4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E40-E652-46C0-8372-599AD563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FCB61-13AB-402D-AF1D-6C5DAC0B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3C6B7-B3CD-47B3-8647-A2034DA4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9031B-14C8-49C9-B828-6EAA47E7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E280B-B40D-4703-BDE2-0D5C66AB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F5CB2-0815-402A-9A15-0FC638AB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E2322-C593-45AC-B238-4D011903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899DE-CEDA-456B-BC82-3B1BE894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9E8A1-F4A6-4DD7-8DAF-6EB6078D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0C56E-A5AA-41C8-B314-F2A0B8C1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FB802-14D3-4EC8-9DA1-00D80225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E3F-7D1A-4FE0-AC05-AE51F7EF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455F8-6F90-40FD-AE46-6CCBEAF3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55E15-49C5-4211-903C-3C0E109F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531B7-C379-4611-8F45-7A2C1AC0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3F5EB-BF08-43A1-B8AA-57836DBA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C78C4-C3C4-42C7-B46F-A0E8FD58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79F7F-22B3-4DAD-A20C-51D11C27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600F4-8750-4F5B-A56E-4B961E5E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CA85F-3C79-4BDE-A002-8A8867CE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8DBF8-7C35-4CF1-BB8D-90FC36F6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4FC42-5508-4F34-A596-ACF10A09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4DB-84B3-485E-870E-28ECE2B7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40B4E-2DB6-441A-B5F6-571932B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68056-06D4-491B-AA55-6E599423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AF083-65CC-4125-88F6-33329478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A808C-3E6E-4E89-9C80-98524ABA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54E60-B9AC-4786-B95D-1A20791F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9224F-6CA9-46FA-93F0-BEABFF80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40A5C-FA6D-46AE-9F98-8D3FAE60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EAF38-9C76-442B-9163-E227172C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FD158-55D0-4B06-BD51-B1FB272B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69CEE-1D41-4626-AFC0-EEF4B3B7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847-1753-4D33-B64F-74CAAA48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68599-8C38-4343-ABAB-56065F5C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D327F-9C38-493E-B57F-C3B2EA1A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1AFE3-90D7-4822-8941-A957699B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1B1A8-A724-4DF9-914C-BA83820B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17418-3E6B-4320-99F5-0BC5AF6B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AC365-3C0E-40AD-906C-F00BB15C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D6DBF-0751-4187-855B-346C91BF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1A63C-F89D-45C7-99BA-8F5897E1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7F97E-BEC3-4633-84D9-5ED78B00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0E1E8-5BBE-46BF-BCAD-EFC4444E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6D8A-1D20-4ABF-98D5-AD2467749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7B2B-6666-43C0-9801-2A943AE12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EA57-22BE-4E5C-B111-04333AA4F2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AD87-20F6-4058-A3CB-E0B3C3A6F7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6E30-F5BD-4897-AF4A-DA7CD63A86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0231-7CAD-43D0-A7B0-7E2ED7E7A4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E803-96FC-43F4-9D2F-C11813D70F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274C-A456-45FB-9005-0997FB5169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AF30-194F-456D-A422-C6CC691596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32A6-A109-41F4-8891-027C2951E1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3847-7423-42AC-BEF5-8420908017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E52B-72EE-4ADC-84C4-0BB93C38B0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F580-3845-49FC-B27F-61CC56BD44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A2CD-7FC3-4A49-A537-4DFA652C16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CED0-2FA2-45CA-88A3-0923F4B4F9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9A86-4CBA-4B0B-BB5D-1C39E0ECA5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6FB4-C186-42AC-86F3-E9C98270B9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70FA-ABAD-4875-8AF8-5137762D7C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9636-107A-4574-ABAA-E6A3BF6757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9A85-21B2-4ACC-8667-496458E7FB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598A-E63F-40C2-B1BE-16FC15F2C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ACE2-7B20-4152-8130-41CB3B769A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78CA-9723-4FCE-99A5-73B498CC49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D418-B6C7-4124-AA77-9980CBE669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61B5-BB76-4E52-A643-2D928AE18D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DB10-B488-4186-91C1-C852893330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1BA4-B084-4FBE-AA8D-8B569F58AF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7018-36D0-4B09-8D70-7F4DEBC55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AA97-7861-4938-B18B-654C945390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F16C-0144-41BA-86C3-63E2D69F4D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FDFF-BCE3-4B04-AB6F-B2DC0300B7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4BB8-E3F9-4193-94B5-207D976439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220C-7F0B-4267-B359-C3A3311636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3768-1B5E-45E2-AA71-F4DE593335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A573-EFDE-414D-A256-55B7E2E3A6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A8DC-5878-4ECB-B672-98DE5016F5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FA62-44D7-40E6-BEE5-EEF4942FB8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A66A-86EF-40F1-9C9C-D48B9BADF2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8F74-0C18-477E-847F-0358C86D80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496B-AF50-4B8D-BFC8-87439E55A3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57320" y="3191040"/>
            <a:ext cx="882792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209520" y="873000"/>
            <a:ext cx="8724960" cy="54007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76360" y="21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547640" y="2708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476360" y="32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4643280" y="1484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643280" y="2205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258920" y="42498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1258920" y="53150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8" name="组合 5124"/>
          <p:cNvGrpSpPr/>
          <p:nvPr/>
        </p:nvGrpSpPr>
        <p:grpSpPr>
          <a:xfrm>
            <a:off x="473040" y="844560"/>
            <a:ext cx="8199360" cy="5448240"/>
            <a:chOff x="473040" y="844560"/>
            <a:chExt cx="8199360" cy="5448240"/>
          </a:xfrm>
        </p:grpSpPr>
        <p:pic>
          <p:nvPicPr>
            <p:cNvPr id="1039" name="图片 1" descr=""/>
            <p:cNvPicPr/>
            <p:nvPr/>
          </p:nvPicPr>
          <p:blipFill>
            <a:blip r:embed="rId1"/>
            <a:stretch/>
          </p:blipFill>
          <p:spPr>
            <a:xfrm>
              <a:off x="473040" y="844560"/>
              <a:ext cx="8199360" cy="544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图片 5123" descr=""/>
            <p:cNvPicPr/>
            <p:nvPr/>
          </p:nvPicPr>
          <p:blipFill>
            <a:blip r:embed="rId2"/>
            <a:stretch/>
          </p:blipFill>
          <p:spPr>
            <a:xfrm>
              <a:off x="1090440" y="1446120"/>
              <a:ext cx="7467840" cy="475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椭圆 5125"/>
          <p:cNvSpPr/>
          <p:nvPr/>
        </p:nvSpPr>
        <p:spPr>
          <a:xfrm>
            <a:off x="5003640" y="1773360"/>
            <a:ext cx="1081080" cy="576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椭圆 5126"/>
          <p:cNvSpPr/>
          <p:nvPr/>
        </p:nvSpPr>
        <p:spPr>
          <a:xfrm>
            <a:off x="6659640" y="2924280"/>
            <a:ext cx="1081080" cy="576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椭圆 5127"/>
          <p:cNvSpPr/>
          <p:nvPr/>
        </p:nvSpPr>
        <p:spPr>
          <a:xfrm>
            <a:off x="4932360" y="4149720"/>
            <a:ext cx="108108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椭圆 5128"/>
          <p:cNvSpPr/>
          <p:nvPr/>
        </p:nvSpPr>
        <p:spPr>
          <a:xfrm>
            <a:off x="6877080" y="5373720"/>
            <a:ext cx="108108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244440" y="595440"/>
            <a:ext cx="8656560" cy="60753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258920" y="1211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1258920" y="2276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1258920" y="2795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1258920" y="33577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3:51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